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DC3-239C-4D74-A33A-EBBCD61A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058-52C6-4A0C-8F0F-0015A4D5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A93-B6C9-4133-8F4A-857FE122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D7F-F83C-4E92-85BB-6681704D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1F6D-D389-46B5-8CC9-86D5A523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5BE6-2064-4DEC-BE42-6B8FF6A5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9709-6E78-4FA6-9B83-4EA5F4CD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7786-32C7-4573-8354-8F39E0A1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F038-FD17-49AD-8F8A-570D2E66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C2AF-DB78-4267-8208-C97A2DDD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E136-96DB-49F0-B7A8-925847A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476-14CC-4094-B76C-9CF55038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07B3-EC6D-4F37-9A88-C0B87E92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DE97-3CEB-4239-B4B2-3E255C34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E886-59AC-426C-B1BB-48188CA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66FB-C3C2-4740-A00E-B2D92368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8683-A5C8-4527-ACC8-E3007337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40AA-ADD8-4491-A63C-B462D135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B0E9-4121-4DC7-9954-07393DD1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4014-B557-461A-B033-F495114B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CAA3-9EF8-4B4C-9205-3F2FE9B4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3369-07C7-4E43-9525-EADA0D46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7BE-EF7F-4324-86BB-D5C677F8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AFA7-BB5C-4C9E-B257-379D473F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A03F-2A75-431D-8A35-B514D1C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7133-D6F3-4B17-8B4B-6E84074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6E55-AF43-4F45-86F4-0EB59773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A86A-3460-4F9A-B4F4-5EA61D2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08C4-8C22-46E1-A6EA-653BADF5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D98B-D95A-4E1C-AAE4-110782C0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7971-DF79-4B34-9075-1D4C8D1C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9A95-400F-410A-935F-AE3EAA20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62F86-DB8B-47ED-8E50-35E5D5A9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7E9-6BE6-4843-B33B-AEECAE6F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3F29F-02B6-4378-8EFD-1B6AA00A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AB10-FBFF-4182-A6B6-4149344F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D8D78-1A73-4A5D-8A20-E5BBE52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2171-0CFD-4273-A2AF-F6B4EC1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61FA3-BA55-49D9-A9DF-0278F46A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8846-29DE-4415-AB0B-CB530C4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5AB4-AAB6-4E4A-960A-DBAE03D0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7537-7394-496D-835F-50FFAA47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C2D5-F8CA-4302-B840-44DDEBB6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83B8-3B1E-4ED6-99EB-DFD39008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501-911A-4B31-BC2A-D2A64687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F0F5A-3F93-4B18-A2EF-638CC41E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5EC3-A957-4D25-A0BD-9130D817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394E2-275A-4FFB-8B52-58BF1C2D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B2598-0579-4553-B0E1-125F4260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A87C-C02E-4998-BFCC-6F088B29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9E13-779A-49BD-929E-9A8B2823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5E3F2-60B3-479D-9753-D7E2B00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94A3B-C4C7-40AC-9AA3-C32F6927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0074-1BD0-4511-8056-6C1676D5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DE7C-916E-45B2-AF95-A3E4BC13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BA3-BB52-467D-9C85-BE32DA1F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0D9B7-1F0D-4A63-A955-FDBDEDA3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6C59-FD24-40C8-BF00-E60A222D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78337-CD8D-47A6-91BC-4F4CB187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DDAAF-D9CA-45EC-93BC-823A9CF2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B2F4D-E8C3-424F-86F6-D19AE94C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74732-D150-4CA9-9295-C6C394E7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4AE60-C421-49E9-8973-4E22FC1C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027D-3194-4622-8215-F4DD8AB0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E2937-E94F-434B-A525-BD8859B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90642-7962-4C3D-B9DE-688CA7B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89B-6938-4522-B289-4BE9A8FF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6BDCA-C102-44F4-BCB3-1E4888C1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209AE-6923-452B-B036-11F2D6D8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92ABA-DF86-4F8F-AD3B-306A2D3B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04811-CF45-4395-AC92-87A74463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CFEC9-39AD-48C6-BE47-2DB7EAFF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7F4E-94E6-495A-B96E-91C78E15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425F-12AC-40AF-8463-8A13F941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CCAA-3D3E-493E-B671-EA20E4C1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6B66A-8545-4F50-905A-43961D67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F78F8-3D7D-4B96-B05D-424098C1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FB5-D71B-4321-9775-FE69A455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8842D-0255-4122-A02A-1762C8B1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13449-EA30-4CB8-B297-58266AD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09F79-2F7E-43D3-8AE2-F2FFFAA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D17AA-BDFB-4A5F-8FD7-639694A3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11CE6-E563-4BBA-9CD8-0912FE08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D14-5A20-40C2-B866-3F891F1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14C-8DE1-4320-A261-6489C183AA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8B88-4BAB-4A91-90E9-FB74CD3967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6BE2-E43C-4719-9611-06754746F5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1080-C2F4-4C87-8A7A-60C2F22F13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C238-F06C-404D-9B5E-BDA5F6316D3D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B94D-B7A4-44B2-AA9C-81CD438F6D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DFC8-CB4F-4A9E-ABF5-3C72E70BBD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howandwhy.ro/uploads/b/balanana/photo-1-1504498638747_874c7~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TextBox 1"/>
          <p:cNvGrpSpPr/>
          <p:nvPr/>
        </p:nvGrpSpPr>
        <p:grpSpPr>
          <a:xfrm>
            <a:off x="1292400" y="2962440"/>
            <a:ext cx="6804000" cy="1566720"/>
            <a:chOff x="1292400" y="2962440"/>
            <a:chExt cx="6804000" cy="1566720"/>
          </a:xfrm>
        </p:grpSpPr>
        <p:pic>
          <p:nvPicPr>
            <p:cNvPr id="305" name="TextBox 1" descr=""/>
            <p:cNvPicPr/>
            <p:nvPr/>
          </p:nvPicPr>
          <p:blipFill>
            <a:blip r:embed="rId1"/>
            <a:stretch/>
          </p:blipFill>
          <p:spPr>
            <a:xfrm>
              <a:off x="1292400" y="2962440"/>
              <a:ext cx="68040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424160" y="3132000"/>
              <a:ext cx="65530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SIUNE DE INSTRUIRE PRIN COACH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R.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4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TextBox 2"/>
          <p:cNvGrpSpPr/>
          <p:nvPr/>
        </p:nvGrpSpPr>
        <p:grpSpPr>
          <a:xfrm>
            <a:off x="1695600" y="4664160"/>
            <a:ext cx="5943600" cy="981000"/>
            <a:chOff x="1695600" y="4664160"/>
            <a:chExt cx="5943600" cy="981000"/>
          </a:xfrm>
        </p:grpSpPr>
        <p:pic>
          <p:nvPicPr>
            <p:cNvPr id="308" name="TextBox 2" descr=""/>
            <p:cNvPicPr/>
            <p:nvPr/>
          </p:nvPicPr>
          <p:blipFill>
            <a:blip r:embed="rId2"/>
            <a:stretch/>
          </p:blipFill>
          <p:spPr>
            <a:xfrm>
              <a:off x="1695600" y="4664160"/>
              <a:ext cx="5943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882800" y="4800600"/>
              <a:ext cx="5637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ACH: - EUGEN</a:t>
              </a:r>
              <a:r>
                <a:rPr b="1" lang="ro-RO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LAUREN</a:t>
              </a:r>
              <a:r>
                <a:rPr b="1" lang="ro-RO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ȚIU REBEGE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ION BOBO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0" name="Picture 19" descr=""/>
          <p:cNvPicPr/>
          <p:nvPr/>
        </p:nvPicPr>
        <p:blipFill>
          <a:blip r:embed="rId3"/>
          <a:stretch/>
        </p:blipFill>
        <p:spPr>
          <a:xfrm>
            <a:off x="1143000" y="0"/>
            <a:ext cx="6400800" cy="12924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4"/>
          <p:cNvSpPr/>
          <p:nvPr/>
        </p:nvSpPr>
        <p:spPr>
          <a:xfrm>
            <a:off x="230040" y="1123920"/>
            <a:ext cx="8456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UL OPERAȚIONAL CAPITAL UMAN 2014-202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xa prioritară 4: Incluziunea socială și combaterea sărăcie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iectiv Specific (O.S.) 4.16: Consolidarea capacității întreprinderilor de economie socială de a funcționa într-o manieră autosustenabil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iect: PROGram de Revitalizare a Economiei Sociale - PROGRES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R: POCU 449/4/16/126093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iect cofinanțat din Programul Operational Capital Uman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4"/>
          <a:stretch/>
        </p:blipFill>
        <p:spPr>
          <a:xfrm>
            <a:off x="1881360" y="5791320"/>
            <a:ext cx="5638680" cy="704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5" descr="https://howandwhy.ro/uploads/article_images/empat__/Neuroni-oglinda-2.jpg"/>
          <p:cNvPicPr/>
          <p:nvPr/>
        </p:nvPicPr>
        <p:blipFill>
          <a:blip r:embed="rId1"/>
          <a:stretch/>
        </p:blipFill>
        <p:spPr>
          <a:xfrm>
            <a:off x="380880" y="50760"/>
            <a:ext cx="2335320" cy="16146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3"/>
          <p:cNvSpPr/>
          <p:nvPr/>
        </p:nvSpPr>
        <p:spPr>
          <a:xfrm>
            <a:off x="216000" y="1665360"/>
            <a:ext cx="862308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uronii - oglindă au fost descoperiți în anul 1990 de un grup de cercetători italieni, sub conducerea medicului şi biologului italian Giacomo Rizzolatt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85760" y="3232080"/>
            <a:ext cx="862344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uronii - oglindă reprezintă o clasă specială de celule nervoase, cu un rol deosebit în cunoașterea directă, automată și inconștientă a mediului înconjurăt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85760" y="4800600"/>
            <a:ext cx="86533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uronii - oglindă reprezintă mecanismul neural prin care acțiunile, intențiile și emoțiile altora pot fi înțelese în mod autom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2700000" y="250920"/>
            <a:ext cx="579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NEURONII OGLIND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BAZA NEUROLOGICĂ A EMPATIE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2769840" y="179280"/>
            <a:ext cx="579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NEURONII OGLIND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BAZA NEUROLOGICĂ A EMPATIE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239760" y="1255680"/>
            <a:ext cx="85345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uronii - oglinda sunt implicați în capacitatea unui individ  de a înțelege starea emoțională a celuilalt, de a percepe ceea ce percepe celălalt, adică în empati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30040" y="2906640"/>
            <a:ext cx="8534520" cy="18003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ercetarile de imagistica au arătat că în timp ce observăm starea emoțională a altor persoane, sunt activate aceleași structuri neuronale care sunt activate atunci cand trăim noi înșine emoțiile respec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39760" y="4987800"/>
            <a:ext cx="85345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sibilitatea individului de a reacționa la acțiunile și emoțiile celorlalți are o importanță foarte mare în reglarea comportamentulu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6" descr="https://howandwhy.ro/uploads/article_images/empat__/Neuroni-oglinda-2.jpg"/>
          <p:cNvPicPr/>
          <p:nvPr/>
        </p:nvPicPr>
        <p:blipFill>
          <a:blip r:embed="rId1"/>
          <a:stretch/>
        </p:blipFill>
        <p:spPr>
          <a:xfrm>
            <a:off x="380880" y="50760"/>
            <a:ext cx="2133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https://howandwhy.ro/uploads/article_images/empat__/Empatie3.jpg"/>
          <p:cNvPicPr/>
          <p:nvPr/>
        </p:nvPicPr>
        <p:blipFill>
          <a:blip r:embed="rId1"/>
          <a:stretch/>
        </p:blipFill>
        <p:spPr>
          <a:xfrm>
            <a:off x="2666880" y="812880"/>
            <a:ext cx="381024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3" name="Rectangle 3"/>
          <p:cNvSpPr/>
          <p:nvPr/>
        </p:nvSpPr>
        <p:spPr>
          <a:xfrm>
            <a:off x="2775600" y="22860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Times New Roman"/>
              </a:rPr>
              <a:t>TREPTELE EMPATI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304920" y="3676680"/>
            <a:ext cx="8534160" cy="520560"/>
          </a:xfrm>
          <a:prstGeom prst="rect">
            <a:avLst/>
          </a:prstGeom>
          <a:noFill/>
          <a:ln w="93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fi o persoană empatică înseamnă mai mult decât a fi sensib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04920" y="4506840"/>
            <a:ext cx="8534160" cy="1373760"/>
          </a:xfrm>
          <a:prstGeom prst="rect">
            <a:avLst/>
          </a:prstGeom>
          <a:noFill/>
          <a:ln w="93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paticii pot percepe senzaţiile fizice şi impulsurile afective, spirituale ale altor persoane, ştiind intuitiv motivaţiile şi intenţiile lo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2775600" y="22860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Times New Roman"/>
              </a:rPr>
              <a:t>TREPTELE EMPATI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152280" y="1055520"/>
            <a:ext cx="8734680" cy="550080"/>
          </a:xfrm>
          <a:prstGeom prst="rect">
            <a:avLst/>
          </a:prstGeom>
          <a:solidFill>
            <a:srgbClr val="fbe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pect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levante pentr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ersoa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mpat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23840" y="1785960"/>
            <a:ext cx="87631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diferent de profesie sau loc de muncă, pun extrem de multă pasiune în ceea ce fac şi sunt gata să ajute cu tot devotamentu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52280" y="3100320"/>
            <a:ext cx="87631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nt imaginativ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reativ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foarte expresiv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în cuvinte şi în gesturi, pot accesa forme de cunoaştere subtil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190440" y="4419720"/>
            <a:ext cx="87631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nt sensibi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la scenele încărcate emoţional pe care le pot vedea la televiziune, în filme, jurnale, videouri, emisiuni et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"/>
          <p:cNvSpPr/>
          <p:nvPr/>
        </p:nvSpPr>
        <p:spPr>
          <a:xfrm>
            <a:off x="2775600" y="22860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Times New Roman"/>
              </a:rPr>
              <a:t>TREPTELE EMPATI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225360" y="4700520"/>
            <a:ext cx="871380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hiar şi persoanele străine se simt atrase de empatici ca de un magnet şi constată cu surprindere că se pot exprima în faţa lor, despre probleme personale, cu multă uşurinţ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222120" y="3809880"/>
            <a:ext cx="8699760" cy="5205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Persoanele empatice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ș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iu s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scult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22120" y="2057400"/>
            <a:ext cx="873468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soanele empatice au dificultăţi în a se manifesta faţă de ignoranţi, faţă de cei limitaţi spiritual sau faţă de cei lipsiţi de compasiune, în general evitându-i din instinc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52280" y="1055520"/>
            <a:ext cx="8734680" cy="550080"/>
          </a:xfrm>
          <a:prstGeom prst="rect">
            <a:avLst/>
          </a:prstGeom>
          <a:solidFill>
            <a:srgbClr val="fbe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pect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levante pentr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ersoa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mpat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1587600" y="304920"/>
            <a:ext cx="64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A ȘI ARMONIA CU CEI DIN J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380880" y="1066680"/>
            <a:ext cx="85345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udiile şi experimentele au arătat că dezvoltând empatia, se ameliorează relaţiile şi capacitatea noastră de adaptare la lumea în care trăi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357120" y="2576520"/>
            <a:ext cx="8558280" cy="520560"/>
          </a:xfrm>
          <a:prstGeom prst="rect">
            <a:avLst/>
          </a:prstGeom>
          <a:solidFill>
            <a:srgbClr val="fbe6ce"/>
          </a:solidFill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comandări ale psihologilor pentru a ne cultiva empat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80880" y="3170160"/>
            <a:ext cx="853452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acceptăm diferenţele de comportament, de gândire, de opini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326880" y="5330880"/>
            <a:ext cx="855828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ne dezvoltăm/exersăm intuiţia, să învăţăm să simţim emoţiile fără judecaţi de valoar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326880" y="4275000"/>
            <a:ext cx="858852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ne deconectăm măcar uneori de la spiritul nostru critic, fiind dificil să manifeşti empatie în condiţii tensionat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1587600" y="304920"/>
            <a:ext cx="64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A ȘI ARMONIA CU CEI DIN J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304920" y="1371600"/>
            <a:ext cx="8557920" cy="520560"/>
          </a:xfrm>
          <a:prstGeom prst="rect">
            <a:avLst/>
          </a:prstGeom>
          <a:solidFill>
            <a:srgbClr val="fbe6ce"/>
          </a:solidFill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comandări ale psihologilor pentru a ne cultiva empat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04920" y="2494080"/>
            <a:ext cx="855792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ne îngropăm ego-ul exacerbat şi să nu ne mai comparăm mereu cu cei din ju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1680" y="3809880"/>
            <a:ext cx="8561160" cy="146232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ă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ăm spiritul de observaţie. Empatia nu este manifestarea unei magii, se bazează pe observarea gesturilor, a limbajului, a tonalităţii vocii, a expresiilor feţei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Image result for oameni falsi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228600" y="152280"/>
            <a:ext cx="86868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DACĂ SUNTEŢI O PERSOANĂ EMPATIC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PROTEJAŢI-VĂ ÎN FAŢA OAMENILOR FALŞ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252360" y="145404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Empaticii simt imediat falsitatea şi ura, mai ales cea din urmă fiind un sentiment negativ extrem de puternic, generându-le empaticilor, pe loc, o stare de inconfort, pe care nu o pot ignora pur şi simp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52360" y="3852720"/>
            <a:ext cx="8686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N</a:t>
            </a: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u este posibil să eviţi astfel de situaţii decât aplicând câteva reguli de protecţ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Image result for oameni falsi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54133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"/>
          <p:cNvSpPr/>
          <p:nvPr/>
        </p:nvSpPr>
        <p:spPr>
          <a:xfrm>
            <a:off x="228600" y="152280"/>
            <a:ext cx="86868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REGULI DE PROTECȚIE ÎN FAȚA OAMENILOR FALŞ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206280" y="914400"/>
            <a:ext cx="8686800" cy="191844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07000"/>
              </a:lnSpc>
              <a:buClr>
                <a:srgbClr val="0070c0"/>
              </a:buClr>
              <a:buSzPct val="35000"/>
              <a:buFont typeface="Wingdings" charset="2"/>
              <a:buChar char="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Neputinţele altora nu trebuie să devină şi ale tale. A-i ajuta pe ceilalţi este o atitudine extrem de generoasă, dar sunt cazuri în care este necesară detaşarea de nevoile altora, trăgând linie şi urmându-ţi propria cale şi propriile aspiraţi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196920" y="3124080"/>
            <a:ext cx="8686800" cy="146232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07000"/>
              </a:lnSpc>
              <a:buClr>
                <a:srgbClr val="0070c0"/>
              </a:buClr>
              <a:buSzPct val="35000"/>
              <a:buFont typeface="Wingdings" charset="2"/>
              <a:buChar char=""/>
              <a:tabLst>
                <a:tab algn="l" pos="236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Exprimă-ți punctul de vedere, chiar dacă nu este convenabil pentru alţii. Un “NU” categoric şi justificat este mai sănătos decât un “DA” de circumstanţ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196920" y="4896000"/>
            <a:ext cx="8718480" cy="100620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just">
              <a:lnSpc>
                <a:spcPct val="107000"/>
              </a:lnSpc>
              <a:buClr>
                <a:srgbClr val="0070c0"/>
              </a:buClr>
              <a:buSzPct val="40000"/>
              <a:buFont typeface="Wingdings" charset="2"/>
              <a:buChar char="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Nu încerca să mulţumeşti pe toată lumea, acest fapt îţi poate consuma în mod inutil energia, forţa vitală şi buna dispoziţ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1295640" y="3809880"/>
            <a:ext cx="6705000" cy="231804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바탕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바탕"/>
              </a:rPr>
              <a:t>CEA MAI MARE </a:t>
            </a:r>
            <a:r>
              <a:rPr b="1" lang="ro-RO" sz="3200" spc="-1" strike="noStrike">
                <a:solidFill>
                  <a:srgbClr val="ff0000"/>
                </a:solidFill>
                <a:latin typeface="Arial Black"/>
                <a:ea typeface="바탕"/>
              </a:rPr>
              <a:t>ÎNZESTRARE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Black"/>
                <a:ea typeface="바탕"/>
              </a:rPr>
              <a:t>FIINȚELOR UMANE ESTE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바탕"/>
              </a:rPr>
              <a:t> </a:t>
            </a:r>
            <a:r>
              <a:rPr b="1" lang="ro-RO" sz="3200" spc="-1" strike="noStrike">
                <a:solidFill>
                  <a:srgbClr val="ff0000"/>
                </a:solidFill>
                <a:latin typeface="Arial Black"/>
                <a:ea typeface="바탕"/>
              </a:rPr>
              <a:t>FAPT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 Black"/>
                <a:ea typeface="바탕"/>
              </a:rPr>
              <a:t>CĂ AVEM PUTEREA DE EMPATIE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  <a:ea typeface="바탕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  <a:ea typeface="바탕"/>
              </a:rPr>
              <a:t>Meryl Stre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Image result for empatie"/>
          <p:cNvPicPr/>
          <p:nvPr/>
        </p:nvPicPr>
        <p:blipFill>
          <a:blip r:embed="rId1"/>
          <a:stretch/>
        </p:blipFill>
        <p:spPr>
          <a:xfrm>
            <a:off x="1600200" y="152280"/>
            <a:ext cx="6095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TextBox 1"/>
          <p:cNvGrpSpPr/>
          <p:nvPr/>
        </p:nvGrpSpPr>
        <p:grpSpPr>
          <a:xfrm>
            <a:off x="1170000" y="3754440"/>
            <a:ext cx="6804000" cy="988920"/>
            <a:chOff x="1170000" y="3754440"/>
            <a:chExt cx="6804000" cy="988920"/>
          </a:xfrm>
        </p:grpSpPr>
        <p:pic>
          <p:nvPicPr>
            <p:cNvPr id="314" name="TextBox 1" descr=""/>
            <p:cNvPicPr/>
            <p:nvPr/>
          </p:nvPicPr>
          <p:blipFill>
            <a:blip r:embed="rId1"/>
            <a:stretch/>
          </p:blipFill>
          <p:spPr>
            <a:xfrm>
              <a:off x="1170000" y="3754440"/>
              <a:ext cx="680400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295280" y="3959280"/>
              <a:ext cx="65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MPATIA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TextBox 2"/>
          <p:cNvGrpSpPr/>
          <p:nvPr/>
        </p:nvGrpSpPr>
        <p:grpSpPr>
          <a:xfrm>
            <a:off x="3303720" y="4559400"/>
            <a:ext cx="2232000" cy="750960"/>
            <a:chOff x="3303720" y="4559400"/>
            <a:chExt cx="2232000" cy="750960"/>
          </a:xfrm>
        </p:grpSpPr>
        <p:pic>
          <p:nvPicPr>
            <p:cNvPr id="317" name="TextBox 2" descr=""/>
            <p:cNvPicPr/>
            <p:nvPr/>
          </p:nvPicPr>
          <p:blipFill>
            <a:blip r:embed="rId2"/>
            <a:stretch/>
          </p:blipFill>
          <p:spPr>
            <a:xfrm>
              <a:off x="3303720" y="4559400"/>
              <a:ext cx="2232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429000" y="47131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U…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TextBox 3"/>
          <p:cNvGrpSpPr/>
          <p:nvPr/>
        </p:nvGrpSpPr>
        <p:grpSpPr>
          <a:xfrm>
            <a:off x="1090440" y="5132520"/>
            <a:ext cx="6956640" cy="903240"/>
            <a:chOff x="1090440" y="5132520"/>
            <a:chExt cx="6956640" cy="903240"/>
          </a:xfrm>
        </p:grpSpPr>
        <p:pic>
          <p:nvPicPr>
            <p:cNvPr id="320" name="TextBox 3" descr=""/>
            <p:cNvPicPr/>
            <p:nvPr/>
          </p:nvPicPr>
          <p:blipFill>
            <a:blip r:embed="rId3"/>
            <a:stretch/>
          </p:blipFill>
          <p:spPr>
            <a:xfrm>
              <a:off x="1090440" y="5132520"/>
              <a:ext cx="69566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219320" y="5315040"/>
              <a:ext cx="670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o-RO" sz="3200" spc="-1" strike="noStrike">
                  <a:solidFill>
                    <a:srgbClr val="ffffff"/>
                  </a:solidFill>
                  <a:latin typeface="Calibri"/>
                </a:rPr>
                <a:t>“</a:t>
              </a:r>
              <a:r>
                <a:rPr b="1" lang="ro-RO" sz="3200" spc="-1" strike="noStrike">
                  <a:solidFill>
                    <a:srgbClr val="ffffff"/>
                  </a:solidFill>
                  <a:latin typeface="Calibri"/>
                </a:rPr>
                <a:t>PUNE-TE ÎN LOCUL MEU!”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2" name="Picture 6" descr="https://howandwhy.ro/uploads/article_images/empat__/Neuroni-oglinda.jpg"/>
          <p:cNvPicPr/>
          <p:nvPr/>
        </p:nvPicPr>
        <p:blipFill>
          <a:blip r:embed="rId4"/>
          <a:stretch/>
        </p:blipFill>
        <p:spPr>
          <a:xfrm>
            <a:off x="2133720" y="22860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1709640" y="12708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A ȘI VIAȚA SOCIAL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2280" y="1246320"/>
            <a:ext cx="87631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istența în societate ține de disponibilitatea fiecărui individ de a înțelege și interpreta corect intențiile, perspec­tivele, opiniile, starea afectivă și chiar mintală a celuilal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52280" y="2971800"/>
            <a:ext cx="8763120" cy="9471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egrarea în viața socială presupune atât inteligență, creativitate cât și capacitate empatic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52280" y="4267080"/>
            <a:ext cx="876312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mpatia constituie un instrument extrem de eficient în abordarea corectă din punct de vedere social și emo­țional a relațiilor sentimentale, familiale și de servici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" descr="https://howandwhy.ro/uploads/b/balanana/photo-1-1504498638747_874c7~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80820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"/>
          <p:cNvSpPr/>
          <p:nvPr/>
        </p:nvSpPr>
        <p:spPr>
          <a:xfrm>
            <a:off x="1416960" y="12708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A, REACȚIE SPONTAN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52280" y="2414520"/>
            <a:ext cx="88394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trăi într-o comunitate înseamnă a trăi alături de ceilalţi,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într-o manieră armonioasă,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diţie sine qua non a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stării de bin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155520" y="3533760"/>
            <a:ext cx="8839080" cy="14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ult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ori auzim în jurul nostru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au poate chiar noi cerem cuiva: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Pune-te în locul meu!”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– şi 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ider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ăm că acest lucru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ste posibil și normal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52280" y="5175360"/>
            <a:ext cx="8839440" cy="10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forturile în acest sens, dorinţa, victoria sau eşecul sunt subordonate ideii de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816120" y="353880"/>
            <a:ext cx="7391160" cy="3276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2"/>
          <p:cNvSpPr/>
          <p:nvPr/>
        </p:nvSpPr>
        <p:spPr>
          <a:xfrm>
            <a:off x="228600" y="3809880"/>
            <a:ext cx="868680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vântul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din grecescul en – “în interior” şi phatos – “suferinţă”/”simtire”) este un termen care numeşte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capacitatea de a recunoaşte, de a trăi, de a împărtăşi sentimentele altcuiv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ex.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tristeţe,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ri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indiferen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ă acestea sunt sau nu exprimate explic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" descr="https://howandwhy.ro/uploads/article_images/empat__/ce-este-empatia-3.png"/>
          <p:cNvPicPr/>
          <p:nvPr/>
        </p:nvPicPr>
        <p:blipFill>
          <a:blip r:embed="rId1"/>
          <a:stretch/>
        </p:blipFill>
        <p:spPr>
          <a:xfrm>
            <a:off x="2590920" y="838080"/>
            <a:ext cx="4038480" cy="19814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2"/>
          <p:cNvSpPr/>
          <p:nvPr/>
        </p:nvSpPr>
        <p:spPr>
          <a:xfrm>
            <a:off x="198360" y="2987640"/>
            <a:ext cx="8717040" cy="1462320"/>
          </a:xfrm>
          <a:prstGeom prst="rect">
            <a:avLst/>
          </a:prstGeom>
          <a:noFill/>
          <a:ln w="93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rmenul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 fost creat de filosoful german Robert Vischer, pentru a denumi “simpatia estetică” (ger. Einfühlung), însemnând relaţionarea unui subiect cu o operă de art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98360" y="4724280"/>
            <a:ext cx="8717040" cy="1462320"/>
          </a:xfrm>
          <a:prstGeom prst="rect">
            <a:avLst/>
          </a:prstGeom>
          <a:noFill/>
          <a:ln w="9360">
            <a:solidFill>
              <a:srgbClr val="bd58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lterior, termenul a fost preluat de psihiatrul şi filosoful Karl Jaspers, apoi de Sigmund Freud, “părintele psihanalizei”, pentru a descifra resorturile noastre interioare în toată complexitatea 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2759040" y="8424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RMENUL </a:t>
            </a:r>
            <a:r>
              <a:rPr b="1" lang="ro-RO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EMPATIE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152280" y="1047600"/>
            <a:ext cx="870444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reprez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int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ă abilitatea unei persoane de a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intui, recunoaște și înțelege sentimentele și emoțiile altor persoan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, de a vedea lumea prin ochii 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47600" y="2806560"/>
            <a:ext cx="868680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nu înseamnă o trăire efectivă a emoţiilor altor persoane, ci o înţelegere a emoţiilor acelor persoane pornind de la experienţele noast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57320" y="4572000"/>
            <a:ext cx="869940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nu înseamnă să te identifici cu celălalt anulându-ţi ţie personalitatea, ci să te transpui în mintea şi sufletul lui pentru a înţelege cum percepe realitate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136520" y="290520"/>
            <a:ext cx="76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 </a:t>
            </a:r>
            <a:r>
              <a:rPr b="1" lang="en-US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-</a:t>
            </a: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FENOMEN PSIHOLOGIC</a:t>
            </a:r>
            <a:r>
              <a:rPr b="1" lang="en-US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COMPLEX</a:t>
            </a: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2438280" y="16344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FENOMEN PSIHOLOGIC</a:t>
            </a:r>
            <a:r>
              <a:rPr b="1" lang="en-US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COMPLEX</a:t>
            </a:r>
            <a:r>
              <a:rPr b="1" lang="ro-RO" sz="3200" spc="-1" strike="noStrike">
                <a:solidFill>
                  <a:srgbClr val="7030a0"/>
                </a:solidFill>
                <a:latin typeface="Arial Narrow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8160" y="2033640"/>
            <a:ext cx="912348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030a0"/>
                </a:solidFill>
                <a:latin typeface="Arial Narrow"/>
                <a:ea typeface="Calibri"/>
              </a:rPr>
              <a:t>EMPATIA</a:t>
            </a:r>
            <a:r>
              <a:rPr b="0" lang="ro-RO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se construieşte pe </a:t>
            </a:r>
            <a:r>
              <a:rPr b="0" lang="ro-RO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deschiderea spre sentimentele celorlalţ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și pe </a:t>
            </a:r>
            <a:r>
              <a:rPr b="0" lang="ro-RO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abilitatea de a citi informaţiile provenite prin intermediul canalelor nonverbale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: tonul vocii, mimica, gesturile şi mişcările persoanelor ş.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23760" y="4038480"/>
            <a:ext cx="91314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Studiile au demonstrat că 90% dintre mijloacele de exprimare a stărilor afective sunt nonverba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3480" y="5181480"/>
            <a:ext cx="90676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De exemplu, o persoană stresată are un ton al vocii oscilant şi redus ca intensitate, gesturi precipitate, care dovedesc iritare şi neliniş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6" descr="empatia, imitarea"/>
          <p:cNvPicPr/>
          <p:nvPr/>
        </p:nvPicPr>
        <p:blipFill>
          <a:blip r:embed="rId1"/>
          <a:stretch/>
        </p:blipFill>
        <p:spPr>
          <a:xfrm>
            <a:off x="76320" y="163440"/>
            <a:ext cx="236196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6" descr=""/>
          <p:cNvPicPr/>
          <p:nvPr/>
        </p:nvPicPr>
        <p:blipFill>
          <a:blip r:embed="rId1"/>
          <a:stretch/>
        </p:blipFill>
        <p:spPr>
          <a:xfrm>
            <a:off x="117360" y="228600"/>
            <a:ext cx="8798040" cy="61722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"/>
          <p:cNvSpPr/>
          <p:nvPr/>
        </p:nvSpPr>
        <p:spPr>
          <a:xfrm>
            <a:off x="254880" y="19080"/>
            <a:ext cx="84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 Narrow"/>
                <a:ea typeface="Calibri"/>
              </a:rPr>
              <a:t>EMPATIA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 Narrow"/>
                <a:ea typeface="Calibri"/>
              </a:rPr>
              <a:t>TRĂSĂTURA ÎNNĂSCUTĂ SAU DOBÂNDITĂ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117360" y="1230480"/>
            <a:ext cx="8798040" cy="18003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Cercetările realizate privind evoluţia pe vârste a empatiei au pus în evidenţă faptul că aceasta apare de timpuriu, încă din primele zile de viaţă ale copilului, pe baza contagiunii afectiv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: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c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opilul mic tinde să preia starea emoțională a celor din ju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117360" y="3200400"/>
            <a:ext cx="8798040" cy="18003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În etapele ulterioare ale vieții, intervin alți factori: experiențele afective proprii ale subiectului, capacitatea de a cunoaște pe cel de alături, disponibilitatea sau indisponibilitatea afectivă (indiferenț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8920" y="5157720"/>
            <a:ext cx="8826480" cy="1373760"/>
          </a:xfrm>
          <a:prstGeom prst="rect">
            <a:avLst/>
          </a:prstGeom>
          <a:noFill/>
          <a:ln w="9360">
            <a:solidFill>
              <a:srgbClr val="e483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Manifestarea şi dezvoltarea empatiei sunt influenţate atât de factori biologici cât şi de factori de mediu, modelele parentale având un rol deoseb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ugen REBEGEA</dc:creator>
  <dc:description/>
  <dc:language>en-US</dc:language>
  <cp:lastModifiedBy>Ion Boboc</cp:lastModifiedBy>
  <cp:lastPrinted>2019-10-23T09:58:47Z</cp:lastPrinted>
  <dcterms:modified xsi:type="dcterms:W3CDTF">2019-11-14T21:58:28Z</dcterms:modified>
  <cp:revision>168</cp:revision>
  <dc:subject/>
  <dc:title>Slide 1</dc:title>
</cp:coreProperties>
</file>