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722-E17F-4A2B-86E2-36F2F70A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E0F-3E20-40B6-88EE-F445D460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9A6-DAEF-49AF-ACF4-E6193B7B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FA7-C937-4E8F-8FF6-3653986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8B02-1DAB-4D56-B833-6E236505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AE5-6986-4F6A-B5EE-F2E53F62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DD9-418D-45CC-BF66-F3C7DF1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5693-3B3D-4118-BB77-36419D6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7CF-512E-44D8-9D41-68480EA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4215-864A-401B-89ED-C89987A7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184-05D0-49FB-91AC-E26E88E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FA5-0C27-4A59-A9A7-4AE17D9C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E3A-7BAD-4D4F-9EE6-CD0E45F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2E6-7E60-4C3C-9B5B-8578E0DC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AE8-1A55-4BF2-92E8-CF9D2D5E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90B3-42C1-4857-BDAB-3A17E5B6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41A4-6102-4F6F-A9E5-39337E3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02BA-6C95-4826-9AB8-0C5A0EB5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D580-9E04-4E81-B48D-37DE3EE6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9E38-34CC-4F31-8212-FE6EF70D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F670-A486-4AF6-86F6-D7AB8DEA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CF23-405C-4484-9C8A-0E797D0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E6A-98B9-427E-8676-5C26644C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2ED2-D604-4F38-AD17-00B7B1DD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F678-2487-4FF4-93DD-4A14686A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B67F-F202-48E0-8841-26C4ED7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F3F0-A116-4D95-A7D4-4D8E49B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A70-DF83-4DE2-ABC1-6CA87DA9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175A-557B-4CD9-993A-C1E684A6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2A6A-3F53-4578-8E9A-DF4920DE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6243-EB99-4746-AE66-1D39A5A9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BC18-8C17-4318-BE7B-A27D8162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2A98-A744-43A1-91B6-3FF9F5F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1C3-229E-4BAA-BCC1-1FF4690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AB44B-0A9F-4A91-89BD-F437C56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43C4-D05D-4C51-B191-19B7CBB6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7E60-4F44-4DBF-B1B8-160C85AA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8EF4-CD12-4B40-B2B5-927BD58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BB75-0006-41E6-B1B0-0EB6EB9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0893-F222-4BE0-8781-A833EAA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2AE6-4729-4059-B010-936A5CB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FC8D-7AF5-4FD0-8526-E1EC8A4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34FF-A996-4961-8A20-384E95A2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D0C8-CB58-4BC5-9369-351EB11B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431-2805-47D3-89C3-85DD6865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0C4F-A561-42ED-97B6-A0C3F53E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11DF-94CE-42DA-9656-623DB41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9BA9-3ED0-4605-9F09-309B9E9D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EBF1-CEDF-4A01-923C-0119B34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B8E1-2229-45BE-8304-DB56ACF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E631-5333-437D-A272-2BF8E9E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91C6-50AD-4E2A-9781-B8A8068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83C4-4F82-4F14-A40D-550A8C3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BBFE-2F61-4577-B79A-60F634C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C608-4A12-4D39-8FEA-0DED51AB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E0B-63B5-4DD4-AF87-5F958D2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DC68-9EE1-4D43-812C-71E78942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9109-3280-4657-855E-733C9DB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A1EA0-7A7B-422F-99D2-83C8FEF4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4C9C-E92F-4D52-ABBB-FE6F2EB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EC91-F46A-4DF2-B5C6-AF59D0A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DA82-5B37-4727-B135-7E75EDD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DA6C-ED1F-45F6-9FEB-E72926BB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2275-7450-4D8D-9EEB-6E8604E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BE12-9734-4756-BA36-5D32A66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614A-3A21-4FE3-BAF0-68719CB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5EB-27D9-4FEB-933D-C58B1D7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43DED-3795-4ACA-B67C-FE37013E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8926F-85E5-4337-8FC3-D3DC40F2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D74E-94C6-4936-8DF0-A27B9F04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ADB61-B52E-400A-A97F-2A3957BB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C557-4BDE-4A91-BBFF-E96147E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9E34-2F33-42FD-8F8B-493BBE08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AAF9-ABA6-4CFB-B18D-95E841A1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80D2-191D-43D8-96EE-4A75AA5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6415-53F0-494D-B7A6-85A0134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148A-0063-49DD-B666-74E7F03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220-2F75-4EA9-83C3-0151522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80AD-7375-4A50-B07F-345D1DD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49E98-D55B-4323-A736-1AC1715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C731D-D0A1-4639-A68F-3EFCEAB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F8CB-FAA5-483E-86FD-FBFB4AAD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AC2B-128D-4A3D-BBBC-33E151E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D95-9DF2-4E84-99F2-A39E9C81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989-00B0-4D0D-8334-2D70E46DC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DA3-BF10-496C-BB71-33FAF4FAB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FABF-6DA7-4977-98A8-451B4E8F9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3D9-4874-400F-B08C-BB265CCA1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0919-B4E7-4375-B5E7-73DCDCF1EB72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B4C-F488-4105-B497-C1D3B43A2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B28-D101-45E5-BC82-AC4F8BE37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howandwhy.ro/uploads/b/balanana/photo-1-1504498638747_874c7~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TextBox 1"/>
          <p:cNvGrpSpPr/>
          <p:nvPr/>
        </p:nvGrpSpPr>
        <p:grpSpPr>
          <a:xfrm>
            <a:off x="1292400" y="2962440"/>
            <a:ext cx="6804000" cy="1566720"/>
            <a:chOff x="1292400" y="2962440"/>
            <a:chExt cx="6804000" cy="1566720"/>
          </a:xfrm>
        </p:grpSpPr>
        <p:pic>
          <p:nvPicPr>
            <p:cNvPr id="305" name="TextBox 1" descr=""/>
            <p:cNvPicPr/>
            <p:nvPr/>
          </p:nvPicPr>
          <p:blipFill>
            <a:blip r:embed="rId1"/>
            <a:stretch/>
          </p:blipFill>
          <p:spPr>
            <a:xfrm>
              <a:off x="1292400" y="2962440"/>
              <a:ext cx="68040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24160" y="3132000"/>
              <a:ext cx="65530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SIUNE DE INSTRUIRE PRIN COACH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R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TextBox 2"/>
          <p:cNvGrpSpPr/>
          <p:nvPr/>
        </p:nvGrpSpPr>
        <p:grpSpPr>
          <a:xfrm>
            <a:off x="1695600" y="4664160"/>
            <a:ext cx="5943600" cy="981000"/>
            <a:chOff x="1695600" y="4664160"/>
            <a:chExt cx="5943600" cy="981000"/>
          </a:xfrm>
        </p:grpSpPr>
        <p:pic>
          <p:nvPicPr>
            <p:cNvPr id="308" name="TextBox 2" descr=""/>
            <p:cNvPicPr/>
            <p:nvPr/>
          </p:nvPicPr>
          <p:blipFill>
            <a:blip r:embed="rId2"/>
            <a:stretch/>
          </p:blipFill>
          <p:spPr>
            <a:xfrm>
              <a:off x="1695600" y="4664160"/>
              <a:ext cx="5943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882800" y="4800600"/>
              <a:ext cx="563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ACH: - EUGEN</a:t>
              </a: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LAUREN</a:t>
              </a: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ȚIU REBEGE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ION BOBO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0" name="Picture 19" descr=""/>
          <p:cNvPicPr/>
          <p:nvPr/>
        </p:nvPicPr>
        <p:blipFill>
          <a:blip r:embed="rId3"/>
          <a:stretch/>
        </p:blipFill>
        <p:spPr>
          <a:xfrm>
            <a:off x="1143000" y="0"/>
            <a:ext cx="6400800" cy="129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230040" y="1123920"/>
            <a:ext cx="8456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UL OPERAȚIONAL CAPITAL UMAN 2014-202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xa prioritară 4: Incluziunea socială și combaterea sărăcie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iectiv Specific (O.S.) 4.16: Consolidarea capacității întreprinderilor de economie socială de a funcționa într-o manieră autosustenabil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iect: PROGram de Revitalizare a Economiei Sociale - PROGRES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R: POCU 449/4/16/126093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iect cofinanțat din Programul Operational Capital Uman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4"/>
          <a:stretch/>
        </p:blipFill>
        <p:spPr>
          <a:xfrm>
            <a:off x="1881360" y="5791320"/>
            <a:ext cx="5638680" cy="704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https://howandwhy.ro/uploads/article_images/empat__/Neuroni-oglinda-2.jpg"/>
          <p:cNvPicPr/>
          <p:nvPr/>
        </p:nvPicPr>
        <p:blipFill>
          <a:blip r:embed="rId1"/>
          <a:stretch/>
        </p:blipFill>
        <p:spPr>
          <a:xfrm>
            <a:off x="380880" y="50760"/>
            <a:ext cx="2335320" cy="16146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16000" y="1665360"/>
            <a:ext cx="86230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ă au fost descoperiți în anul 1990 de un grup de cercetători italieni, sub conducerea medicului şi biologului italian Giacomo Rizzolatt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85760" y="3232080"/>
            <a:ext cx="862344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ă reprezintă o clasă specială de celule nervoase, cu un rol deosebit în cunoașterea directă, automată și inconștientă a mediului înconjurăt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85760" y="4800600"/>
            <a:ext cx="86533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uronii - oglindă reprezintă mecanismul neural prin care acțiunile, intențiile și emoțiile altora pot fi înțelese în mod autom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2700000" y="250920"/>
            <a:ext cx="57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NEURONII OGLIND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BAZA NEUROLOGICĂ A EMPATI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2769840" y="179280"/>
            <a:ext cx="57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NEURONII OGLIND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BAZA NEUROLOGICĂ A EMPATI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39760" y="125568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a sunt implicați în capacitatea unui individ  de a înțelege starea emoțională a celuilalt, de a percepe ceea ce percepe celălalt, adică în empat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30040" y="2906640"/>
            <a:ext cx="853452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ercetarile de imagistica au arătat că în timp ce observăm starea emoțională a altor persoane, sunt activate aceleași structuri neuronale care sunt activate atunci cand trăim noi înșine emoțiile respe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39760" y="498780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sibilitatea individului de a reacționa la acțiunile și emoțiile celorlalți are o importanță foarte mare în reglarea comportamentulu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6" descr="https://howandwhy.ro/uploads/article_images/empat__/Neuroni-oglinda-2.jpg"/>
          <p:cNvPicPr/>
          <p:nvPr/>
        </p:nvPicPr>
        <p:blipFill>
          <a:blip r:embed="rId1"/>
          <a:stretch/>
        </p:blipFill>
        <p:spPr>
          <a:xfrm>
            <a:off x="380880" y="50760"/>
            <a:ext cx="2133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https://howandwhy.ro/uploads/article_images/empat__/Empatie3.jpg"/>
          <p:cNvPicPr/>
          <p:nvPr/>
        </p:nvPicPr>
        <p:blipFill>
          <a:blip r:embed="rId1"/>
          <a:stretch/>
        </p:blipFill>
        <p:spPr>
          <a:xfrm>
            <a:off x="2666880" y="812880"/>
            <a:ext cx="381024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Rectangle 3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04920" y="3676680"/>
            <a:ext cx="8534160" cy="52056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fi o persoană empatică înseamnă mai mult decât a fi sensib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04920" y="4506840"/>
            <a:ext cx="8534160" cy="137376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paticii pot percepe senzaţiile fizice şi impulsurile afective, spirituale ale altor persoane, ştiind intuitiv motivaţiile şi intenţiile l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152280" y="1055520"/>
            <a:ext cx="8734680" cy="550080"/>
          </a:xfrm>
          <a:prstGeom prst="rect">
            <a:avLst/>
          </a:prstGeom>
          <a:solidFill>
            <a:srgbClr val="fbe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ec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evante pentr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so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mpa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23840" y="178596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diferent de profesie sau loc de muncă, pun extrem de multă pasiune în ceea ce fac şi sunt gata să ajute cu tot devotament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52280" y="310032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nt imaginat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reat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foarte expres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în cuvinte şi în gesturi, pot accesa forme de cunoaştere subtil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90440" y="441972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nt sensibi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la scenele încărcate emoţional pe care le pot vedea la televiziune, în filme, jurnale, videouri, emisiuni et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225360" y="4700520"/>
            <a:ext cx="871380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hiar şi persoanele străine se simt atrase de empatici ca de un magnet şi constată cu surprindere că se pot exprima în faţa lor, despre probleme personale, cu multă uşurinţ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22120" y="3809880"/>
            <a:ext cx="8699760" cy="5205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Persoanele empatice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u s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scult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22120" y="2057400"/>
            <a:ext cx="87346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soanele empatice au dificultăţi în a se manifesta faţă de ignoranţi, faţă de cei limitaţi spiritual sau faţă de cei lipsiţi de compasiune, în general evitându-i din instin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52280" y="1055520"/>
            <a:ext cx="8734680" cy="550080"/>
          </a:xfrm>
          <a:prstGeom prst="rect">
            <a:avLst/>
          </a:prstGeom>
          <a:solidFill>
            <a:srgbClr val="fbe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ec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evante pentr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so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mpa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587600" y="30492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ARMONIA CU CEI DIN J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380880" y="106668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udiile şi experimentele au arătat că dezvoltând empatia, se ameliorează relaţiile şi capacitatea noastră de adaptare la lumea în care tră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57120" y="2576520"/>
            <a:ext cx="8558280" cy="520560"/>
          </a:xfrm>
          <a:prstGeom prst="rect">
            <a:avLst/>
          </a:prstGeom>
          <a:solidFill>
            <a:srgbClr val="fbe6ce"/>
          </a:solidFill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comandări ale psihologilor pentru a ne cultiva em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80880" y="3170160"/>
            <a:ext cx="85345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acceptăm diferenţele de comportament, de gândire, de opini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26880" y="5330880"/>
            <a:ext cx="855828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dezvoltăm/exersăm intuiţia, să învăţăm să simţim emoţiile fără judecaţi de valoar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326880" y="4275000"/>
            <a:ext cx="85885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deconectăm măcar uneori de la spiritul nostru critic, fiind dificil să manifeşti empatie în condiţii tensionat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587600" y="30492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ARMONIA CU CEI DIN J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04920" y="1371600"/>
            <a:ext cx="8557920" cy="520560"/>
          </a:xfrm>
          <a:prstGeom prst="rect">
            <a:avLst/>
          </a:prstGeom>
          <a:solidFill>
            <a:srgbClr val="fbe6ce"/>
          </a:solidFill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comandări ale psihologilor pentru a ne cultiva em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04920" y="2494080"/>
            <a:ext cx="85579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îngropăm ego-ul exacerbat şi să nu ne mai comparăm mereu cu cei din ju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1680" y="3809880"/>
            <a:ext cx="8561160" cy="146232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ăm spiritul de observaţie. Empatia nu este manifestarea unei magii, se bazează pe observarea gesturilor, a limbajului, a tonalităţii vocii, a expresiilor feţei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Image result for oameni falsi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228600" y="152280"/>
            <a:ext cx="86868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DACĂ SUNTEŢI O PERSOANĂ EMPATIC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ROTEJAŢI-VĂ ÎN FAŢA OAMENILOR FALŞ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52360" y="14540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Empaticii simt imediat falsitatea şi ura, mai ales cea din urmă fiind un sentiment negativ extrem de puternic, generându-le empaticilor, pe loc, o stare de inconfort, pe care nu o pot ignora pur şi simp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52360" y="3852720"/>
            <a:ext cx="8686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u este posibil să eviţi astfel de situaţii decât aplicând câteva reguli de protecţ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Image result for oameni falsi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54133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"/>
          <p:cNvSpPr/>
          <p:nvPr/>
        </p:nvSpPr>
        <p:spPr>
          <a:xfrm>
            <a:off x="228600" y="152280"/>
            <a:ext cx="86868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GULI DE PROTECȚIE ÎN FAȚA OAMENILOR FALŞ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206280" y="914400"/>
            <a:ext cx="8686800" cy="191844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35000"/>
              <a:buFont typeface="Wingdings" charset="2"/>
              <a:buChar char="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eputinţele altora nu trebuie să devină şi ale tale. A-i ajuta pe ceilalţi este o atitudine extrem de generoasă, dar sunt cazuri în care este necesară detaşarea de nevoile altora, trăgând linie şi urmându-ţi propria cale şi propriile aspiraţi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196920" y="3124080"/>
            <a:ext cx="8686800" cy="146232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35000"/>
              <a:buFont typeface="Wingdings" charset="2"/>
              <a:buChar char="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Exprimă-ți punctul de vedere, chiar dacă nu este convenabil pentru alţii. Un “NU” categoric şi justificat este mai sănătos decât un “DA” de circumstanţ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96920" y="4896000"/>
            <a:ext cx="871848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40000"/>
              <a:buFont typeface="Wingdings" charset="2"/>
              <a:buChar char="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u încerca să mulţumeşti pe toată lumea, acest fapt îţi poate consuma în mod inutil energia, forţa vitală şi buna dispoziţ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1295640" y="3809880"/>
            <a:ext cx="6705000" cy="231804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CEA MAI MARE </a:t>
            </a: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ÎNZESTRARE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FIINȚELOR UMANE ESTE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FAPT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CĂ AVEM PUTEREA DE EMPATIE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  <a:ea typeface="바탕"/>
              </a:rPr>
              <a:t>Meryl Str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Image result for empatie"/>
          <p:cNvPicPr/>
          <p:nvPr/>
        </p:nvPicPr>
        <p:blipFill>
          <a:blip r:embed="rId1"/>
          <a:stretch/>
        </p:blipFill>
        <p:spPr>
          <a:xfrm>
            <a:off x="1600200" y="1522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Box 1"/>
          <p:cNvGrpSpPr/>
          <p:nvPr/>
        </p:nvGrpSpPr>
        <p:grpSpPr>
          <a:xfrm>
            <a:off x="1170000" y="3754440"/>
            <a:ext cx="6804000" cy="988920"/>
            <a:chOff x="1170000" y="3754440"/>
            <a:chExt cx="6804000" cy="988920"/>
          </a:xfrm>
        </p:grpSpPr>
        <p:pic>
          <p:nvPicPr>
            <p:cNvPr id="314" name="TextBox 1" descr=""/>
            <p:cNvPicPr/>
            <p:nvPr/>
          </p:nvPicPr>
          <p:blipFill>
            <a:blip r:embed="rId1"/>
            <a:stretch/>
          </p:blipFill>
          <p:spPr>
            <a:xfrm>
              <a:off x="1170000" y="3754440"/>
              <a:ext cx="68040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295280" y="3959280"/>
              <a:ext cx="65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PATI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TextBox 2"/>
          <p:cNvGrpSpPr/>
          <p:nvPr/>
        </p:nvGrpSpPr>
        <p:grpSpPr>
          <a:xfrm>
            <a:off x="3303720" y="4559400"/>
            <a:ext cx="2232000" cy="750960"/>
            <a:chOff x="3303720" y="4559400"/>
            <a:chExt cx="2232000" cy="750960"/>
          </a:xfrm>
        </p:grpSpPr>
        <p:pic>
          <p:nvPicPr>
            <p:cNvPr id="317" name="TextBox 2" descr=""/>
            <p:cNvPicPr/>
            <p:nvPr/>
          </p:nvPicPr>
          <p:blipFill>
            <a:blip r:embed="rId2"/>
            <a:stretch/>
          </p:blipFill>
          <p:spPr>
            <a:xfrm>
              <a:off x="3303720" y="4559400"/>
              <a:ext cx="223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429000" y="47131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U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TextBox 3"/>
          <p:cNvGrpSpPr/>
          <p:nvPr/>
        </p:nvGrpSpPr>
        <p:grpSpPr>
          <a:xfrm>
            <a:off x="1090440" y="5132520"/>
            <a:ext cx="6956640" cy="903240"/>
            <a:chOff x="1090440" y="5132520"/>
            <a:chExt cx="6956640" cy="903240"/>
          </a:xfrm>
        </p:grpSpPr>
        <p:pic>
          <p:nvPicPr>
            <p:cNvPr id="320" name="TextBox 3" descr=""/>
            <p:cNvPicPr/>
            <p:nvPr/>
          </p:nvPicPr>
          <p:blipFill>
            <a:blip r:embed="rId3"/>
            <a:stretch/>
          </p:blipFill>
          <p:spPr>
            <a:xfrm>
              <a:off x="1090440" y="5132520"/>
              <a:ext cx="69566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219320" y="5315040"/>
              <a:ext cx="67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o-RO" sz="3200" spc="-1" strike="noStrike">
                  <a:solidFill>
                    <a:srgbClr val="ffffff"/>
                  </a:solidFill>
                  <a:latin typeface="Calibri"/>
                </a:rPr>
                <a:t>“</a:t>
              </a:r>
              <a:r>
                <a:rPr b="1" lang="ro-RO" sz="3200" spc="-1" strike="noStrike">
                  <a:solidFill>
                    <a:srgbClr val="ffffff"/>
                  </a:solidFill>
                  <a:latin typeface="Calibri"/>
                </a:rPr>
                <a:t>PUNE-TE ÎN LOCUL MEU!”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Picture 6" descr="https://howandwhy.ro/uploads/article_images/empat__/Neuroni-oglinda.jpg"/>
          <p:cNvPicPr/>
          <p:nvPr/>
        </p:nvPicPr>
        <p:blipFill>
          <a:blip r:embed="rId4"/>
          <a:stretch/>
        </p:blipFill>
        <p:spPr>
          <a:xfrm>
            <a:off x="2133720" y="2286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709640" y="12708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VIAȚA SOCIAL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1246320"/>
            <a:ext cx="87631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istența în societate ține de disponibilitatea fiecărui individ de a înțelege și interpreta corect intențiile, perspec­tivele, opiniile, starea afectivă și chiar mintală a celuilal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52280" y="297180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grarea în viața socială presupune atât inteligență, creativitate cât și capacitate empatic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52280" y="4267080"/>
            <a:ext cx="87631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patia constituie un instrument extrem de eficient în abordarea corectă din punct de vedere social și emo­țional a relațiilor sentimentale, familiale și de servici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https://howandwhy.ro/uploads/b/balanana/photo-1-1504498638747_874c7~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0820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1416960" y="1270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, REACȚIE SPONTAN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52280" y="2414520"/>
            <a:ext cx="88394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trăi într-o comunitate înseamnă a trăi alături de ceilalţi,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într-o manieră armonioasă,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diţie sine qua non a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stării de bin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55520" y="3533760"/>
            <a:ext cx="8839080" cy="14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ult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ori auzim în jurul nostru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au poate chiar noi cerem cuiva: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Pune-te în locul meu!”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– şi 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ider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ăm că acest lucru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ste posibil și normal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52280" y="5175360"/>
            <a:ext cx="8839440" cy="10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forturile în acest sens, dorinţa, victoria sau eşecul sunt subordonate ideii de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816120" y="353880"/>
            <a:ext cx="7391160" cy="3276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228600" y="3809880"/>
            <a:ext cx="86868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vântul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din grecescul en – “în interior” şi phatos – “suferinţă”/”simtire”) este un termen care numeşte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apacitatea de a recunoaşte, de a trăi, de a împărtăşi sentimentele altcuiv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ex.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tristeţe,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ri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indiferen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ă acestea sunt sau nu exprimate explic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https://howandwhy.ro/uploads/article_images/empat__/ce-este-empatia-3.png"/>
          <p:cNvPicPr/>
          <p:nvPr/>
        </p:nvPicPr>
        <p:blipFill>
          <a:blip r:embed="rId1"/>
          <a:stretch/>
        </p:blipFill>
        <p:spPr>
          <a:xfrm>
            <a:off x="2590920" y="838080"/>
            <a:ext cx="4038480" cy="1981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"/>
          <p:cNvSpPr/>
          <p:nvPr/>
        </p:nvSpPr>
        <p:spPr>
          <a:xfrm>
            <a:off x="198360" y="2987640"/>
            <a:ext cx="8717040" cy="146232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rmenul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 fost creat de filosoful german Robert Vischer, pentru a denumi “simpatia estetică” (ger. Einfühlung), însemnând relaţionarea unui subiect cu o operă de art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98360" y="4724280"/>
            <a:ext cx="8717040" cy="146232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lterior, termenul a fost preluat de psihiatrul şi filosoful Karl Jaspers, apoi de Sigmund Freud, “părintele psihanalizei”, pentru a descifra resorturile noastre interioare în toată complexitatea 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2759040" y="8424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RMENUL </a:t>
            </a: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152280" y="1047600"/>
            <a:ext cx="870444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reprez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int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ă abilitatea unei persoane de a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intui, recunoaște și înțelege sentimentele și emoțiile altor persoan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, de a vedea lumea prin ochii 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47600" y="2806560"/>
            <a:ext cx="86868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nu înseamnă o trăire efectivă a emoţiilor altor persoane, ci o înţelegere a emoţiilor acelor persoane pornind de la experienţele noast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57320" y="4572000"/>
            <a:ext cx="86994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nu înseamnă să te identifici cu celălalt anulându-ţi ţie personalitatea, ci să te transpui în mintea şi sufletul lui pentru a înţelege cum percepe realitat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136520" y="290520"/>
            <a:ext cx="76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 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-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FENOMEN PSIHOLOGIC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COMPLEX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438280" y="1634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FENOMEN PSIHOLOGIC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COMPLEX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8160" y="2033640"/>
            <a:ext cx="91234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se construieşte pe 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deschiderea spre sentimentele celorlalţ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și pe 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abilitatea de a citi informaţiile provenite prin intermediul canalelor nonverba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: tonul vocii, mimica, gesturile şi mişcările persoanelor ş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3760" y="4038480"/>
            <a:ext cx="9131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Studiile au demonstrat că 90% dintre mijloacele de exprimare a stărilor afective sunt nonverb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3480" y="5181480"/>
            <a:ext cx="9067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De exemplu, o persoană stresată are un ton al vocii oscilant şi redus ca intensitate, gesturi precipitate, care dovedesc iritare şi neliniş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6" descr="empatia, imitarea"/>
          <p:cNvPicPr/>
          <p:nvPr/>
        </p:nvPicPr>
        <p:blipFill>
          <a:blip r:embed="rId1"/>
          <a:stretch/>
        </p:blipFill>
        <p:spPr>
          <a:xfrm>
            <a:off x="76320" y="163440"/>
            <a:ext cx="23619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6" descr=""/>
          <p:cNvPicPr/>
          <p:nvPr/>
        </p:nvPicPr>
        <p:blipFill>
          <a:blip r:embed="rId1"/>
          <a:stretch/>
        </p:blipFill>
        <p:spPr>
          <a:xfrm>
            <a:off x="117360" y="228600"/>
            <a:ext cx="8798040" cy="6172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254880" y="19080"/>
            <a:ext cx="84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EMPATIA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TRĂSĂTURA ÎNNĂSCUTĂ SAU DOBÂNDITĂ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117360" y="1230480"/>
            <a:ext cx="879804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Cercetările realizate privind evoluţia pe vârste a empatiei au pus în evidenţă faptul că aceasta apare de timpuriu, încă din primele zile de viaţă ale copilului, pe baza contagiunii afectiv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c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opilul mic tinde să preia starea emoțională a celor din ju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17360" y="3200400"/>
            <a:ext cx="879804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În etapele ulterioare ale vieții, intervin alți factori: experiențele afective proprii ale subiectului, capacitatea de a cunoaște pe cel de alături, disponibilitatea sau indisponibilitatea afectivă (indiferenț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8920" y="5157720"/>
            <a:ext cx="88264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Manifestarea şi dezvoltarea empatiei sunt influenţate atât de factori biologici cât şi de factori de mediu, modelele parentale având un rol deoseb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ugen REBEGEA</dc:creator>
  <dc:description/>
  <dc:language>en-US</dc:language>
  <cp:lastModifiedBy>Ion Boboc</cp:lastModifiedBy>
  <cp:lastPrinted>2019-10-23T09:58:47Z</cp:lastPrinted>
  <dcterms:modified xsi:type="dcterms:W3CDTF">2019-11-14T21:58:28Z</dcterms:modified>
  <cp:revision>168</cp:revision>
  <dc:subject/>
  <dc:title>Slide 1</dc:title>
</cp:coreProperties>
</file>